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492-B9E2-49BB-8D18-1AB65B08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8DA-761E-43DA-9B09-D739B7B1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A3D-B24D-468C-B8BF-F392DC8C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12E-024A-44F0-8489-36945423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C7AC-856B-4787-884F-618158E0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9EE8-4D39-489A-84AB-82489882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F018-DC18-440A-B2A1-80EB4E0A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462B-8062-4DE1-A3BF-20583D4B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19EE-E043-421E-9E32-BC138069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088A-373E-4B56-9B5A-8DACBA2A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267B-5FD3-4824-89B8-37EA1A61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406-4FF9-4D13-8380-BD223D1C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AD12-5E5C-434A-95D3-4B8C33A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5469-2355-4033-8660-A8F54129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471-5C13-433F-AC00-0E47916C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470A-0EB4-4906-8579-3DC45325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DE6A-BCF0-4536-B145-5875598C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FE84-9A17-48FC-860C-F0DB0959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3C2E-9A5E-4F8B-A862-04DC8700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2EC0-83FF-4CA2-92E9-1F8F8D9D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4970-EA15-4680-BFC2-91F58122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5DDA-A8D8-411F-B695-8370A928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23C-AF05-4811-8421-2582F2BB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CB22-1F55-4691-B64E-512CEC16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ABC65-30EC-4D50-A54F-0C57F1D4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1E2F-CF91-4430-B57D-DA786210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3A10-56E4-47F1-B5A2-54176E51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D9A03-52EA-4091-B5C4-6038AA73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D7D0D-0355-4FBE-B146-07B9F553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87E28-B2CA-461D-8D1F-7198D943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CACFB-2657-441A-983F-5FA082AC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106C-9255-4191-9D5E-4FDC9294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8838-5452-4C69-AF96-FF831173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247-EC58-4C8D-A291-879AC14B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B5C55-818E-4FEC-8ACF-793F3AE6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A187F-43F9-4AB7-8643-82916161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E2C6-238A-4427-A499-25F0F5F7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555D-1323-4CFC-A87B-91FC5F69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B8CA5-8A9C-42A0-91FD-334622B8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81F07-2F4A-44DF-BEF1-FCC9978F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2E3D5-52EE-4BFA-A2D7-796F336F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E8531-5E62-452D-B196-4BE8CEF7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C9AFA-4968-4E36-83AC-65DE63D5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897B-F04C-4585-9265-A138A09B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49C-3651-46A9-800C-56AE14CB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80C3A-9D71-4B1A-A830-90C4A94F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18B5C-A9D4-4D9A-980B-A4D25875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20DE0-3FEA-4D40-97C3-8A2B381F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89E3-CD19-4DF5-8E62-79FF5A2C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18A96-A850-47BD-85B6-E7980F18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6808A-FB8B-4705-883E-519FE8B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3EF89-3BDB-4A3A-B982-1669ED3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E2911-65EE-48B4-BA56-627200DF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4D2FB-1352-4CB4-A621-0FC1CB0B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384AD-FBC7-4041-ABD0-39AE2774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B96-17AB-4B18-8E1D-478F580E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61378-EB5B-473C-BED9-C5739000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200C-80D4-4910-A160-76D63ABF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3497C-611E-48CC-94EF-2C4A5453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F4405-C8A7-449B-92EC-D6E7CA42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B7D90-017A-4307-B0DF-C1BF2134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50DB3-91FB-4139-A77A-AC567796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6C810-4BDE-4D51-B0EE-C9F40723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FEC2-DD1B-4D99-8ED8-702B0060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BA711-FD65-4B5B-86C7-F0342918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B556D-A8C6-4EFA-B603-F1171A39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DC63-5B81-4A7D-994A-6C9C567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1E90-E869-40C2-BD39-C426B037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E1843-69DF-458F-A9B4-9FAE2DB7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B726D-3278-43EA-97A8-DEE74322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B7507-954C-4C1C-A8B1-15A79EED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0DA4A-6985-4231-9C82-4E5BC224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6BA0-0A78-4D44-8A3C-2E26CF5E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20ECA-E5D1-450B-89BF-61CC2151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29992-53D7-4B3A-9BC4-164006A4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C91A9-B91E-40EC-A4E8-5F617E89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3BBE-9F3F-4F54-97EB-65A61137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E62-3C41-4DA8-BA8B-DD89FFA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36734-71CC-46DD-BAE0-31BBA9B8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1951C-4E9C-42B5-A99C-C2564461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BB651-E888-480E-AA9C-30A8F1D2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AEFB7-CEDB-40E2-9A70-E94F4476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E9167-F516-4860-A5DC-A0C3D951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DE2-C34D-4D24-B1AC-F794BCC4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03FC-0BA2-44BD-AAC3-8D787921062B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9F02-B4B0-4017-A80B-687D1FB5AE26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E201-F804-4C4B-84BF-6748AFD874C3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AF0A-0B9E-4854-BABD-1190AFEE5940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AF4F-4E19-460C-B4B7-FB0193F4B3A1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FB9-A061-46DF-9B92-C8D329A349F4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EEB4-E39C-4341-8F85-236AE40F4274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8083-94E7-49AB-A184-3966857F6898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F387-4312-4BC0-842D-CF63A18D4A12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22F3-59B5-4398-B3E6-13377FB2B0A0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623D-55CB-4EEB-B5E7-79362EF69FF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9D04-E770-457D-94D5-EB9594700D44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FE77-10EB-497E-A165-FCBBCE87DD77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2B06-D305-4742-A37E-6A0E7B8F6C9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Peritonitida" TargetMode="External"/><Relationship Id="rId2" Type="http://schemas.openxmlformats.org/officeDocument/2006/relationships/hyperlink" Target="http://www.wikiskripta.eu/index.php/Hernie" TargetMode="External"/><Relationship Id="rId3" Type="http://schemas.openxmlformats.org/officeDocument/2006/relationships/hyperlink" Target="http://www.wikiskripta.eu/index.php/N&#225;hl&#233;_p&#345;&#237;hody_b&#345;i&#353;n&#237;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Emesis" TargetMode="External"/><Relationship Id="rId2" Type="http://schemas.openxmlformats.org/officeDocument/2006/relationships/hyperlink" Target="http://www.wikiskripta.eu/index.php/Pr&#367;jem" TargetMode="External"/><Relationship Id="rId3" Type="http://schemas.openxmlformats.org/officeDocument/2006/relationships/hyperlink" Target="http://www.wikiskripta.eu/index.php/Z&#225;cpa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Stomatitis_aphtosa" TargetMode="External"/><Relationship Id="rId2" Type="http://schemas.openxmlformats.org/officeDocument/2006/relationships/hyperlink" Target="http://www.wikiskripta.eu/index.php/Gingivitida" TargetMode="External"/><Relationship Id="rId3" Type="http://schemas.openxmlformats.org/officeDocument/2006/relationships/hyperlink" Target="http://www.wikiskripta.eu/index.php/Soor" TargetMode="External"/><Relationship Id="rId4" Type="http://schemas.openxmlformats.org/officeDocument/2006/relationships/hyperlink" Target="http://www.wikiskripta.eu/index.php/Zubn&#237;_kaz" TargetMode="External"/><Relationship Id="rId5" Type="http://schemas.openxmlformats.org/officeDocument/2006/relationships/hyperlink" Target="http://www.wikiskripta.eu/index.php/Parodontitis" TargetMode="External"/><Relationship Id="rId6" Type="http://schemas.openxmlformats.org/officeDocument/2006/relationships/hyperlink" Target="http://cs.wikipedia.org/wiki/Ang&#237;na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Dysfagie" TargetMode="External"/><Relationship Id="rId2" Type="http://schemas.openxmlformats.org/officeDocument/2006/relationships/hyperlink" Target="http://www.wikiskripta.eu/index.php/Hi&#225;tov&#225;_hernie" TargetMode="External"/><Relationship Id="rId3" Type="http://schemas.openxmlformats.org/officeDocument/2006/relationships/hyperlink" Target="http://www.wikiskripta.eu/index.php/Refluxn&#237;_choroba_j&#237;cnu" TargetMode="External"/><Relationship Id="rId4" Type="http://schemas.openxmlformats.org/officeDocument/2006/relationships/hyperlink" Target="http://www.wikiskripta.eu/index.php/N&#225;dory_j&#237;cnu" TargetMode="External"/><Relationship Id="rId5" Type="http://schemas.openxmlformats.org/officeDocument/2006/relationships/hyperlink" Target="http://www.wikiskripta.eu/index.php/J&#237;cnov&#233;_varixy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.wikipedia.org/wiki/&#381;alude&#269;n&#237;_v&#345;ed" TargetMode="External"/><Relationship Id="rId2" Type="http://schemas.openxmlformats.org/officeDocument/2006/relationships/hyperlink" Target="http://www.wikiskripta.eu/index.php/Peptick&#253;_v&#345;ed_&#382;aludku_a_duodena" TargetMode="External"/><Relationship Id="rId3" Type="http://schemas.openxmlformats.org/officeDocument/2006/relationships/hyperlink" Target="http://www.wikiskripta.eu/index.php/Pylorosten&#243;za" TargetMode="External"/><Relationship Id="rId4" Type="http://schemas.openxmlformats.org/officeDocument/2006/relationships/hyperlink" Target="http://www.wikiskripta.eu/index.php/Karcinom_&#382;aludku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N&#225;hl&#225;_p&#345;&#237;hoda_b&#345;i&#353;n&#237;#Akutn.C3.AD_b.C5.99i.C5.A1n.C3.AD_ischemie" TargetMode="External"/><Relationship Id="rId2" Type="http://schemas.openxmlformats.org/officeDocument/2006/relationships/hyperlink" Target="http://cs.wikipedia.org/wiki/Ulcer&#243;zn&#237;_kolitida" TargetMode="External"/><Relationship Id="rId3" Type="http://schemas.openxmlformats.org/officeDocument/2006/relationships/hyperlink" Target="http://cs.wikipedia.org/wiki/Crohnova_nemoc" TargetMode="External"/><Relationship Id="rId4" Type="http://schemas.openxmlformats.org/officeDocument/2006/relationships/hyperlink" Target="http://www.wikiskripta.eu/index.php/Akutn&#237;_appendicitida" TargetMode="External"/><Relationship Id="rId5" Type="http://schemas.openxmlformats.org/officeDocument/2006/relationships/hyperlink" Target="http://www.wikiskripta.eu/index.php/Kolorekt&#225;ln&#237;_karcinom" TargetMode="External"/><Relationship Id="rId6" Type="http://schemas.openxmlformats.org/officeDocument/2006/relationships/hyperlink" Target="http://www.wikiskripta.eu/index.php/Polypy" TargetMode="External"/><Relationship Id="rId7" Type="http://schemas.openxmlformats.org/officeDocument/2006/relationships/hyperlink" Target="http://www.wikiskripta.eu/index.php/Ileus" TargetMode="External"/><Relationship Id="rId8" Type="http://schemas.openxmlformats.org/officeDocument/2006/relationships/hyperlink" Target="http://www.wikiskripta.eu/index.php/St&#345;evn&#237;_malabsorpce" TargetMode="External"/><Relationship Id="rId9" Type="http://schemas.openxmlformats.org/officeDocument/2006/relationships/hyperlink" Target="http://www.wikiskripta.eu/index.php/K&#253;la" TargetMode="Externa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77320" cy="26085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Arial Black"/>
              </a:rPr>
              <a:t>Patologie trávicího systému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Y_32_INOVACE_KLN.2.17a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17.2.2014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17 zahrnuje pojmy: poruchy a onemocnění trávicího systému. Prezentace je zakončena sérií otázek k opakování a je k ní připojen Test XI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0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8191440" cy="13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Nemoci pobřišni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Periton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Kýly (herni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Náhlé příhody břiš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Nemoci slinivky břiš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kutní hemoragická nekróz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hronická pankreat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ukoviscidóza (cystická fibróza)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cs.wikipedia.org/wiki/Mukoviscid%C3%B3z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Nemoci jater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epatitid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Toxická poškození ja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Cirhóz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Tumory ja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Corbel"/>
              </a:rPr>
              <a:t>Projevy nedostatečnosti jater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únav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celková nevůl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snížené množství albuminů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ikterus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tmavá moč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světlá stolic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změna jaterní tkáně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zvýšená krvácivos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gynekomasti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jaterní selhání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edémy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poruchy psychiky i hybnosti (jater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encealopatie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bezvědomí  (jaterní kóma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-smr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nemocnění žlučník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holelitiáza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Choleliti%C3%A1z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ánět žlučových ce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dory žlučových ce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arcinom žlučník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???  Co j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Gastritid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Peptický vře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Soor (moučnivka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Ileu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Ischemie střev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Apendicitid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Náhlá příhoda břišní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Ikteru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Pankreatitid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Virová hepatitid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Jícnové varixy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Jaterní cirhóz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Cholelitiáz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Cystická fibróza (mukoviscidóza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Kýl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Malabsorbční syndrom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Karcinom rekta / žaludku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rbel"/>
              </a:rPr>
              <a:t>Aftózní stomatitida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Patologie trávicí soustavy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Trávicí systém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dílí se na zajištění stálosti vnitřního prostředí a výstavbě organismu tím, že mechanicky a chemicky zpracovává potravu, vstřebává do krve sacharidy, tuky, bílkoviny, minerály, vitamíny a vodu a některé látky z těla vylučuj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trávicího systém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Zvracení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emesis, vomitu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Průjem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diare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teatore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Zácpa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obstipac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leus (neprůchodnost střev) viz dá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alabsorbční syndromy viz dál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Nemoci ústní dutiny a hltan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erpetická gingivostomatit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Aftózní stomatit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Ulcerózní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gingiv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oor (moučnivka)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Soor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Gangrenózní stomat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Zubní kaz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(caries denti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arodontitis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wikiskripta.eu/index.php/Parodontitis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6"/>
              </a:rPr>
              <a:t>Angí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Nemoci jícn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Dysfag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iátové hernie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+ reflux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Refluxn%C3%AD_choroba_j%C3%ADcnu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ánět jícn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Nádory jícn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Jícnové varix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Nemoci žaludk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ruchy sekreční činnost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Gastr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Eroze a vřed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Peptický vřed žaludku a dvanáctník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ylorostenóza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Pylorosten%C3%B3z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Karcinom žaludk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Nemoci střev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Ischem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ánět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cs.wikipedia.org/wiki/Ulcer%C3%B3zn%C3%AD_kolitid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cs.wikipedia.org/wiki/Crohnova_nemoc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Apendicit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dory –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kolorektální karcinom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apř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6"/>
              </a:rPr>
              <a:t>Polyp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7"/>
              </a:rPr>
              <a:t>Ile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8"/>
              </a:rPr>
              <a:t>Malabsorpční syndrom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9"/>
              </a:rPr>
              <a:t>Kýly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herni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6:47:33Z</dcterms:created>
  <dc:creator>Veronika</dc:creator>
  <dc:description/>
  <dc:language>en-US</dc:language>
  <cp:lastModifiedBy>Chalupna</cp:lastModifiedBy>
  <dcterms:modified xsi:type="dcterms:W3CDTF">2014-03-31T21:29:07Z</dcterms:modified>
  <cp:revision>52</cp:revision>
  <dc:subject/>
  <dc:title>Snímek 1</dc:title>
</cp:coreProperties>
</file>